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10A-2621-4CB6-97CF-B1FEF22B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 differe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B4A-2E55-4AF0-8E81-58695154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75E-4F57-4CC3-90D2-A1104F4B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B6D-BB46-4DC2-A4AA-F696FD32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D19-83EF-4C47-87CB-0F0F3608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2C7-2D14-49E3-9387-AF613EA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39F-28C9-4065-845C-7257701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592-3DC3-4F46-A5E3-9E8BA88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0C3-5097-428A-A0DF-F5B63DCB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A37-A1A5-4D6F-A09C-D6F89025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372-018C-4B51-9D18-C54524B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D3E-9D52-40FE-822F-E1FF74A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8DE-7571-4372-80FB-22E5A44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7858-57B4-4432-8615-B2796A5B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Business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d/Lock Dow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empus Sans ITC"/>
              </a:rPr>
              <a:t>Regents Resul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empus Sans ITC"/>
              </a:rPr>
              <a:t>NR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Regents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129520" cy="3200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219320"/>
                <a:gridCol w="1423800"/>
                <a:gridCol w="1471680"/>
                <a:gridCol w="127152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t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-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-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-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03848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1055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oal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90% Proficiency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nd 60% Ma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January 17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zano’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 Art and Science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at will I do to establish and communicate learning goals, track student progress, and celebrate su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 Assessmen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Three Questions of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ree Critic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m I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m I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close the g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going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Provide a clear and understandable vision of the learning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Use examples of strong and weak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Rubicon Atlas – 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now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ffer regular descrip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ach students to self-assess and set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rmative, Common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ummative assessments (Regents, fin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How can I close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teg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Design lessons to focus on the Greatest Area of Need (G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tegy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each students focused r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tegy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gage students in self-reflection and let them document and share thei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cademic Interventions, Differentiated Instruction, “Perfect Practice”, Greatest Area of Need (G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Celebrate Student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ve students chart their progress on each learning 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ategy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cognize and celebrate individual and group growth (knowledge-bas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Learning Environment: Clear unit goals and evidence of student accomp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4:55:48Z</dcterms:created>
  <dc:creator>North Rockland High School</dc:creator>
  <dc:description/>
  <dc:language>en-US</dc:language>
  <cp:lastModifiedBy>North Rockland High School</cp:lastModifiedBy>
  <dcterms:modified xsi:type="dcterms:W3CDTF">2008-01-17T18:01:51Z</dcterms:modified>
  <cp:revision>8</cp:revision>
  <dc:subject/>
  <dc:title>Make It Happen  Power of Communication 2007-2008 </dc:title>
</cp:coreProperties>
</file>